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C5E-86B6-4D95-9E7B-386230EC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E06-0728-4441-9D04-ABFF06AC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062-A92E-4034-976F-F9E50BA5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046-0149-41C8-B611-200EF9F9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CC6-99EC-4FBF-997E-DB8953D1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D47-0549-456A-A10C-EDA828F3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7D9-C4D9-4F53-880B-3BDE55EC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B1B-B2BF-4726-8984-2DA09DEE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A93-C32A-4BFD-8DE8-4A5A5D2E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479-9DF5-4172-BB5A-8CD10455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2143-E5FE-4C75-9E30-472653A1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C2C-9630-406E-BF9B-D6EA694F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4E5C-56AA-453C-930B-FABE3E335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eting Interests in the 199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Groups: French and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ized Groups: Aboriginals; Franco-Canadians outside Quebec; other ethnic minorit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5909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orm Party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ilingualism outside Queb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not a ‘distinct society’ because every province is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qualization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ower to the provi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milarities between Reform and Bloc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44756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rvative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648320"/>
            <a:ext cx="12952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2971800"/>
            <a:ext cx="169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ian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3809880"/>
            <a:ext cx="27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Party of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480060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4648320"/>
            <a:ext cx="12956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819520"/>
            <a:ext cx="1752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2895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733920"/>
            <a:ext cx="29718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14600" y="4191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27672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105520" y="48769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nk, Pair, Sh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equalization payments just?  Should wealthy provinces be obliged to help out poorer provinces? Provide reasons for your respon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uld Quebec be considered a ‘distinct society’ or just one province among many?  Consider the history of French-English relations.  Provide reasons for your respon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Lost in the Shuffle?</a:t>
            </a:r>
            <a:br>
              <a:rPr sz="45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please read text, pp. 358-359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o-Canadians outside Queb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rig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etien moves on, Quebec nationalists even more un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izeau calls for a referendum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ctober 30, 1995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: 49.4% -- No: 50.6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vil is in the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as it a challenge to reach a consensus at Meech Lake and Charlottet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ey bother spending so much time and ener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070000" cy="195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0400" y="1857240"/>
            <a:ext cx="32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rian Mulr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years spent labouring over the constitution and nothing to show for i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happened to the Progressive Conservative pa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1909800" cy="2116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15084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m Campbell - first female PM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0 days in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al Landslide - huge maj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e gains for new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loc Quebecois 60+ seats - official oppositi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form - 50+ sea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 Conservatives?… 2 s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 election:  Fundament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gionali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s in the House of Com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ight some Canadians be concerned about these develop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PC MPs up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ight these MPs be upse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reak from the PC Party.  They want Quebec to break from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4960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Canadian Conservative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erta; British Colum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ization: what is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25780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Black 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 gave Alberta $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not quite as rich, but still a ‘have’ province (from coal, l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232272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8380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read the W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, a ‘have-not’ province, got $5 billion in equalization payments in 2001 (now about $8 billion/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what Albertans thought of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ck</cp:lastModifiedBy>
  <dcterms:modified xsi:type="dcterms:W3CDTF">2010-10-29T05:37:51Z</dcterms:modified>
  <cp:revision>4</cp:revision>
  <dc:subject/>
  <dc:title>Competing Interests in the 1990s</dc:title>
</cp:coreProperties>
</file>